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647-55C4-423E-9C6A-FBD49CD1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5FD-4797-4C31-AE22-DD9BC6417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7D6-EC6F-4DA5-963E-98B7A3A2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F83-1D93-4693-BFE7-D3BC3341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A78-8DA8-4058-9656-C93EB33A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B17-D3E2-408C-B847-6FC92E9B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422-1DAE-46AC-8118-5DCDB82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6D1-3C46-45B9-8643-A8372EF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8A8-79DA-4342-A437-C1D22C4B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2AA-0A64-4EA2-B5AC-DCB9F19D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6E4-0753-4780-A0C7-8D9EAEA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7E3-EF98-4346-8A2B-A564B74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630-45DE-4A78-BEC0-7C83530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F4B-24D2-4932-9781-D08C21C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DA6D-4128-4687-AA01-4D1789A5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 amigas.  Come est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1752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. Yo tengo tres  hermanos, son fastidioso.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05Z</dcterms:modified>
  <cp:revision>104</cp:revision>
  <dc:subject/>
  <dc:title>Profile</dc:title>
</cp:coreProperties>
</file>